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1443-F225-4699-ACD6-4E73905AA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9F78-E986-4FAC-A7C9-C9D15706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F1CF-26B6-4651-B8ED-99073907C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35A2-AB88-48DA-A1AA-2AFB283D1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BA1A8-9CE7-4D5C-A448-BBC7B0DBD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2E8B3-B5CE-4AB5-842D-6029D3316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35B0-F242-41D7-A81B-6DA585AA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C5A0-41EF-4F18-8535-F1C1148D2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55173-C405-4552-91E7-2D3D814D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23E0-93B4-46E2-A1D9-7C2D0D7B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15F1-0436-478C-A515-72F601F5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F7B5-7165-4136-9EFD-A9D97C6C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93A8-C7F2-48FC-9246-2ACDD6A6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36E4-C2E5-4B22-B7ED-06F6D120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02D1-E66A-417D-9077-BB68AEAE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0F78-277B-4AEE-8D95-8AD897E52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4B44-9E90-4B7F-8301-E94149AF0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CD94-F4AB-420C-93D5-876252E9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796F-8B6D-45F6-9903-5693E79D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F983-B3A8-4BD2-9004-1BB486D5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B2C6-14CB-4EB7-BEB3-51F8CC1B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1CF1-C369-453E-BBB2-FE81EB89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1DFE-9A62-4FAC-BB79-D3A6C238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AA10-8A5D-4052-9DE4-FC5D1ADC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CA5A-AEAD-4DD5-89F0-E888AF8A5B61}" type="slidenum"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5288-45CA-4331-A78E-A9328EBCE73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roblem Solving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raw a Diagram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by Monica Yuskaiti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p 2 - Decide how you’re going to solve the problem</a:t>
            </a:r>
            <a:br>
              <a:rPr sz="4400"/>
            </a:b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Choose a metho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520" y="228600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Use a graph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Use formula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Write an equation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Make a list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Find a pattern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Work backward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Use reasoning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Draw a diagram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Make a table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Act it out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4114800"/>
            <a:ext cx="3809880" cy="609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p 2 - Decide how you’re going to solve the problem</a:t>
            </a:r>
            <a:br>
              <a:rPr sz="4400"/>
            </a:b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Make your diagra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543800" y="2819520"/>
            <a:ext cx="380880" cy="533160"/>
          </a:xfrm>
          <a:custGeom>
            <a:avLst/>
            <a:gdLst>
              <a:gd name="textAreaLeft" fmla="*/ 156960 w 380880"/>
              <a:gd name="textAreaRight" fmla="*/ 223920 w 38088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467480" y="21337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079120" y="274320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69640" y="3352680"/>
            <a:ext cx="46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2743200"/>
            <a:ext cx="659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W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1120" y="3048120"/>
            <a:ext cx="276120" cy="304560"/>
          </a:xfrm>
          <a:prstGeom prst="star5">
            <a:avLst/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25880" y="2819520"/>
            <a:ext cx="10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start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15200" y="525780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11720" y="5257800"/>
            <a:ext cx="146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1 mil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5179680" y="4037040"/>
            <a:ext cx="2160" cy="838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43400" y="320040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81480" y="3198960"/>
            <a:ext cx="0" cy="838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66880" y="4876920"/>
            <a:ext cx="8384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05320" y="487692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43400" y="487692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66880" y="4038480"/>
            <a:ext cx="8384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666880" y="4038120"/>
            <a:ext cx="1800" cy="8384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05320" y="403848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53760" y="4038480"/>
            <a:ext cx="134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finish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91120" y="3886200"/>
            <a:ext cx="276120" cy="304920"/>
          </a:xfrm>
          <a:prstGeom prst="star5">
            <a:avLst/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blem Solving is easy if you follow these step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EDUCH091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867280" cy="51055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581280" y="2895480"/>
            <a:ext cx="3173400" cy="28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lve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Step 3 - Solve the problem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43800" y="3429000"/>
            <a:ext cx="380880" cy="533520"/>
          </a:xfrm>
          <a:custGeom>
            <a:avLst/>
            <a:gdLst>
              <a:gd name="textAreaLeft" fmla="*/ 156960 w 380880"/>
              <a:gd name="textAreaRight" fmla="*/ 223920 w 38088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467480" y="274320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079120" y="335268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69640" y="3962520"/>
            <a:ext cx="46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60160" y="3352680"/>
            <a:ext cx="659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W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91120" y="3048120"/>
            <a:ext cx="276120" cy="304560"/>
          </a:xfrm>
          <a:prstGeom prst="star5">
            <a:avLst/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5880" y="2819520"/>
            <a:ext cx="10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start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315200" y="525780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11720" y="5257800"/>
            <a:ext cx="146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1 mil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5179680" y="4037040"/>
            <a:ext cx="2160" cy="838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43400" y="320040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81480" y="3198960"/>
            <a:ext cx="0" cy="838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666880" y="4876920"/>
            <a:ext cx="8384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505320" y="487692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43400" y="487692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66880" y="4038480"/>
            <a:ext cx="8384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666880" y="4038120"/>
            <a:ext cx="1800" cy="8384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353760" y="4038480"/>
            <a:ext cx="134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finish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3886200"/>
            <a:ext cx="276120" cy="304920"/>
          </a:xfrm>
          <a:prstGeom prst="star5">
            <a:avLst/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403848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4600" y="1447920"/>
            <a:ext cx="818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Measure the distance between the start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and the finish &amp; compare it to the mile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4343400" y="320040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5029200"/>
            <a:ext cx="83808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blem Solving is easy if you follow these step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EDUCH091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867280" cy="51055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581280" y="2971800"/>
            <a:ext cx="3173400" cy="28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ok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ack &amp;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p 4 - Look Back &amp; Check</a:t>
            </a:r>
            <a:br>
              <a:rPr sz="4400"/>
            </a:b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Reread the proble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A Girl Scout troop went on a hike. 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First they walked 1 mile east, then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2 miles south, then 3 miles west,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and 1 mile north, then 2 miles east. 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How far is the troop from their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starting point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48320" y="3429000"/>
            <a:ext cx="53316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267080" y="2743200"/>
            <a:ext cx="5335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67280" y="327672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8120" y="4648320"/>
            <a:ext cx="1066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438280" y="3962520"/>
            <a:ext cx="10670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934320" y="4648320"/>
            <a:ext cx="990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4114800"/>
            <a:ext cx="5335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3429000"/>
            <a:ext cx="5335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77120" y="3962520"/>
            <a:ext cx="761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4114800"/>
            <a:ext cx="5335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p 4 - Look Back &amp; Check</a:t>
            </a:r>
            <a:br>
              <a:rPr sz="4400"/>
            </a:b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Compare the information from the problem to your work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772400" y="2895480"/>
            <a:ext cx="380880" cy="533520"/>
          </a:xfrm>
          <a:custGeom>
            <a:avLst/>
            <a:gdLst>
              <a:gd name="textAreaLeft" fmla="*/ 156960 w 380880"/>
              <a:gd name="textAreaRight" fmla="*/ 223920 w 38088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96080" y="220968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307720" y="281952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98240" y="3429000"/>
            <a:ext cx="46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88760" y="2819520"/>
            <a:ext cx="659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W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91320" y="3200400"/>
            <a:ext cx="276120" cy="304920"/>
          </a:xfrm>
          <a:prstGeom prst="star5">
            <a:avLst/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02400" y="2971800"/>
            <a:ext cx="10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start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543800" y="533412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40320" y="5334120"/>
            <a:ext cx="146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1 mil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19920" y="335268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0" y="3352680"/>
            <a:ext cx="1440" cy="8384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43400" y="502920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81480" y="5029200"/>
            <a:ext cx="8384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502920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43400" y="419112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343400" y="4191120"/>
            <a:ext cx="1440" cy="838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81480" y="4191120"/>
            <a:ext cx="8384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953960" y="4191120"/>
            <a:ext cx="134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finish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91320" y="4038480"/>
            <a:ext cx="276120" cy="304920"/>
          </a:xfrm>
          <a:prstGeom prst="star5">
            <a:avLst/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0" y="4191120"/>
            <a:ext cx="1440" cy="838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3353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1 mile east,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2 miles south,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3 miles west,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1 mile north,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2 miles eas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p 4 - Look Back &amp; Check</a:t>
            </a:r>
            <a:br>
              <a:rPr sz="4400"/>
            </a:b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Did you solve what the problem asked you to solv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848720" y="3962520"/>
            <a:ext cx="380880" cy="533160"/>
          </a:xfrm>
          <a:custGeom>
            <a:avLst/>
            <a:gdLst>
              <a:gd name="textAreaLeft" fmla="*/ 156960 w 380880"/>
              <a:gd name="textAreaRight" fmla="*/ 223920 w 38088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772400" y="32767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383680" y="388620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774200" y="4495680"/>
            <a:ext cx="46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165080" y="3886200"/>
            <a:ext cx="659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W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15000" y="3809880"/>
            <a:ext cx="276120" cy="304920"/>
          </a:xfrm>
          <a:prstGeom prst="star5">
            <a:avLst/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726080" y="3581280"/>
            <a:ext cx="10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start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43800" y="533412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240320" y="5334120"/>
            <a:ext cx="146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1 mil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943600" y="396252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781680" y="3960720"/>
            <a:ext cx="0" cy="8384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67080" y="5638680"/>
            <a:ext cx="8384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105520" y="563868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943600" y="563868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67080" y="4800600"/>
            <a:ext cx="8384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267080" y="4800600"/>
            <a:ext cx="1800" cy="838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05520" y="480060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78000" y="4800600"/>
            <a:ext cx="134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finish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15000" y="4648320"/>
            <a:ext cx="276120" cy="304560"/>
          </a:xfrm>
          <a:prstGeom prst="star5">
            <a:avLst/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1680" y="4799160"/>
            <a:ext cx="0" cy="838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3124080"/>
            <a:ext cx="335304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1 mile east,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2 miles south,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3 miles west,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1 mile north,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2 miles east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213372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How far is the troop from their starting point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867280" y="396252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5943600" y="3505320"/>
            <a:ext cx="380880" cy="7617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87480" y="2895480"/>
            <a:ext cx="19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one mil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raw a diagram to solve this problem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Times New Roman"/>
              </a:rPr>
              <a:t>A picture frame with a photo is 15 inches wide and 12 inches high.  A mat around the photo is 1 ½ inches wide on all sides.  What are the dimensions of the photo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95480" y="4114800"/>
            <a:ext cx="3429000" cy="2743200"/>
          </a:xfrm>
          <a:prstGeom prst="rect">
            <a:avLst/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4648320"/>
            <a:ext cx="2362320" cy="1652400"/>
          </a:xfrm>
          <a:prstGeom prst="rect">
            <a:avLst/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895480" y="5562720"/>
            <a:ext cx="3429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257800" y="4191120"/>
            <a:ext cx="0" cy="26668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95480" y="6095880"/>
            <a:ext cx="53352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4800600"/>
            <a:ext cx="53316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33920" y="4114800"/>
            <a:ext cx="0" cy="5335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6324480"/>
            <a:ext cx="0" cy="5335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15880" y="49528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0" y="5486400"/>
            <a:ext cx="69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11680" y="403848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1 ½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92560" y="615636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1 ½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20960" y="615636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1 ½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87840" y="403848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1 ½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5488200" y="403848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304920"/>
            <a:ext cx="6019920" cy="4419360"/>
          </a:xfrm>
          <a:prstGeom prst="rect">
            <a:avLst/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581280" y="1143000"/>
            <a:ext cx="4267440" cy="2819520"/>
          </a:xfrm>
          <a:prstGeom prst="rect">
            <a:avLst/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666880" y="2971800"/>
            <a:ext cx="601992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86400" y="380880"/>
            <a:ext cx="0" cy="43434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373392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848720" y="160020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81280" y="380880"/>
            <a:ext cx="0" cy="7621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010280" y="39625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62520" y="213372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5”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410080" y="129528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2”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86920" y="307800"/>
            <a:ext cx="121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 ½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239600" y="3886200"/>
            <a:ext cx="121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 ½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667600" y="3809880"/>
            <a:ext cx="121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 ½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544520" y="228600"/>
            <a:ext cx="121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 ½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29680" y="4724280"/>
            <a:ext cx="857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Step 1 – Add the two mat edges together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38080" y="1828800"/>
            <a:ext cx="1082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1 ½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1 ½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276720"/>
            <a:ext cx="16761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9000" y="2514600"/>
            <a:ext cx="4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95280" y="3429000"/>
            <a:ext cx="930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2/2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63200" y="342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7520" y="5257800"/>
            <a:ext cx="8159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Step 2 – Convert the 2/2 into 1 and add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this to the whole number 2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blem Solving is easy if you follow these step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EDUCH091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867280" cy="51055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581280" y="2895480"/>
            <a:ext cx="3173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nderstan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5488200" y="403848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666880" y="304920"/>
            <a:ext cx="6019920" cy="4419360"/>
          </a:xfrm>
          <a:prstGeom prst="rect">
            <a:avLst/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81280" y="1143000"/>
            <a:ext cx="4267440" cy="2819520"/>
          </a:xfrm>
          <a:prstGeom prst="rect">
            <a:avLst/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66880" y="2971800"/>
            <a:ext cx="601992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486400" y="380880"/>
            <a:ext cx="0" cy="43434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743200" y="373392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848720" y="160020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81280" y="380880"/>
            <a:ext cx="0" cy="7621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010280" y="39625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962520" y="2133720"/>
            <a:ext cx="144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5”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410080" y="12952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2”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86920" y="307800"/>
            <a:ext cx="121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 ½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239600" y="3886200"/>
            <a:ext cx="121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 ½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667600" y="3809880"/>
            <a:ext cx="121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 ½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544520" y="228600"/>
            <a:ext cx="121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 ½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" y="47242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1828800"/>
            <a:ext cx="1082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1 ½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1 ½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3520" y="3276720"/>
            <a:ext cx="16761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9000" y="2514600"/>
            <a:ext cx="4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121932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39160" y="342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2440" y="5029200"/>
            <a:ext cx="8159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Step 2 – Convert the 2/2 into 1 and add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this to the whole number 2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5488200" y="403848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66880" y="304920"/>
            <a:ext cx="6019920" cy="4419360"/>
          </a:xfrm>
          <a:prstGeom prst="rect">
            <a:avLst/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581280" y="1143000"/>
            <a:ext cx="4267440" cy="2819520"/>
          </a:xfrm>
          <a:prstGeom prst="rect">
            <a:avLst/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666880" y="2971800"/>
            <a:ext cx="601992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86400" y="380880"/>
            <a:ext cx="0" cy="43434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743200" y="373392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848720" y="160020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581280" y="380880"/>
            <a:ext cx="0" cy="7621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010280" y="39625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962520" y="213372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5”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410080" y="129528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2”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86920" y="307800"/>
            <a:ext cx="121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 ½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239600" y="3886200"/>
            <a:ext cx="121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 ½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667600" y="3809880"/>
            <a:ext cx="121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 ½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544520" y="228600"/>
            <a:ext cx="121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 ½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8600" y="47242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38080" y="1828800"/>
            <a:ext cx="1082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15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33520" y="3276720"/>
            <a:ext cx="16761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8640" y="251460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38800" y="32767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5029200"/>
            <a:ext cx="802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Step 3 – To get the width of the photo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subtract the 3 from 15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5488200" y="403848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666880" y="304920"/>
            <a:ext cx="6019920" cy="4419360"/>
          </a:xfrm>
          <a:prstGeom prst="rect">
            <a:avLst/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581280" y="1143000"/>
            <a:ext cx="4267440" cy="2819520"/>
          </a:xfrm>
          <a:prstGeom prst="rect">
            <a:avLst/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2971800"/>
            <a:ext cx="601992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486400" y="380880"/>
            <a:ext cx="0" cy="43434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743200" y="373392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848720" y="160020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380880"/>
            <a:ext cx="0" cy="7621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010280" y="39625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962520" y="213372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5”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10080" y="12952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2”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86920" y="307800"/>
            <a:ext cx="121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 ½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239600" y="3886200"/>
            <a:ext cx="121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 ½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667600" y="3809880"/>
            <a:ext cx="121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 ½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544520" y="228600"/>
            <a:ext cx="121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 ½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8600" y="47242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38080" y="1828800"/>
            <a:ext cx="1082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33520" y="3276720"/>
            <a:ext cx="16761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8640" y="251460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067760" y="32767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32800" y="5029200"/>
            <a:ext cx="8143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Step 4 – To get the height of the photo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subtract the 3 from 12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5488200" y="403848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666880" y="304920"/>
            <a:ext cx="6019920" cy="4419360"/>
          </a:xfrm>
          <a:prstGeom prst="rect">
            <a:avLst/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581280" y="1143000"/>
            <a:ext cx="4267440" cy="2819520"/>
          </a:xfrm>
          <a:prstGeom prst="rect">
            <a:avLst/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581280" y="2971800"/>
            <a:ext cx="426744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486400" y="1143000"/>
            <a:ext cx="0" cy="28195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743200" y="373392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848720" y="160020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581280" y="380880"/>
            <a:ext cx="0" cy="7621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010280" y="39625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191120" y="220968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2”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638680" y="129528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9”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886920" y="307800"/>
            <a:ext cx="121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 ½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239600" y="3886200"/>
            <a:ext cx="121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 ½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667600" y="3809880"/>
            <a:ext cx="121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 ½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544520" y="228600"/>
            <a:ext cx="121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 ½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28600" y="47242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38080" y="380880"/>
            <a:ext cx="1082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1828800"/>
            <a:ext cx="16761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59000" y="1066680"/>
            <a:ext cx="4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38800" y="17524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28760" y="4952880"/>
            <a:ext cx="87152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Step 5 – Your photo size is 12 x 9 inches.  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To check your work, add 2 times the mat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width to each of your new measurements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38080" y="2514600"/>
            <a:ext cx="1082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3520" y="3962520"/>
            <a:ext cx="16761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59000" y="3200400"/>
            <a:ext cx="4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38800" y="38862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raw a diagram to solve this problem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The Zunigas, Estoleros, Leys, Penas and Rices all live on the same road in a row.  The Estoleros live in the middle house.  The Penas live in the first house. The Leys live between the Estoleros and the Zunigas.  Who lives in the second house? 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990720" y="5181480"/>
            <a:ext cx="961920" cy="914400"/>
          </a:xfrm>
          <a:prstGeom prst="pentagon">
            <a:avLst/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590920" y="5181480"/>
            <a:ext cx="961920" cy="914400"/>
          </a:xfrm>
          <a:prstGeom prst="pentagon">
            <a:avLst/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867280" y="5181480"/>
            <a:ext cx="962280" cy="914400"/>
          </a:xfrm>
          <a:prstGeom prst="pentagon">
            <a:avLst/>
          </a:prstGeom>
          <a:solidFill>
            <a:srgbClr val="99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191120" y="5181480"/>
            <a:ext cx="961920" cy="914400"/>
          </a:xfrm>
          <a:prstGeom prst="pentagon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467480" y="5181480"/>
            <a:ext cx="962280" cy="914400"/>
          </a:xfrm>
          <a:prstGeom prst="pentagon">
            <a:avLst/>
          </a:prstGeom>
          <a:solidFill>
            <a:srgbClr val="cc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066680" y="6095880"/>
            <a:ext cx="73915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371600" y="5715000"/>
            <a:ext cx="2286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0" y="5715000"/>
            <a:ext cx="2286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248520" y="5715000"/>
            <a:ext cx="2286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848720" y="5715000"/>
            <a:ext cx="2286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971800" y="5715000"/>
            <a:ext cx="2286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21160" y="5105520"/>
            <a:ext cx="52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297080" y="510552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697880" y="5105520"/>
            <a:ext cx="52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95880" y="5105520"/>
            <a:ext cx="52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819520" y="5105520"/>
            <a:ext cx="55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tep 1 – Understand the problem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Times New Roman"/>
              </a:rPr>
              <a:t>Read the problem carefully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Times New Roman"/>
              </a:rPr>
              <a:t>Find the important information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Times New Roman"/>
              </a:rPr>
              <a:t>Write down the numbers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Times New Roman"/>
              </a:rPr>
              <a:t>Identify what the problem wants you to solve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Times New Roman"/>
              </a:rPr>
              <a:t>Ask if your answer is going to be a larger or smaller number compared to what you already know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p 1 - Understand the Problem</a:t>
            </a:r>
            <a:br>
              <a:rPr sz="4400"/>
            </a:b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Read the problem carefully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A Girl Scout troop went on a hike.  First they walked 1 mile east, then 2 miles south, then 3 miles west, and 1 mile north, then 2 miles east.  How far is the troop from their starting point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p 1 - Understand the Problem</a:t>
            </a:r>
            <a:br>
              <a:rPr sz="4400"/>
            </a:b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Find the important informatio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4114800"/>
            <a:ext cx="5335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A Girl Scout troop went on a hike. 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First they walked 1 mile east, then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2 miles south, then 3 miles west,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and 1 mile north, then 2 miles east. 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How far is the troop from their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starting point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4114800"/>
            <a:ext cx="5335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3429000"/>
            <a:ext cx="5335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3429000"/>
            <a:ext cx="5335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67080" y="2743200"/>
            <a:ext cx="5335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327672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4648320"/>
            <a:ext cx="1066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38280" y="3962520"/>
            <a:ext cx="10670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3962520"/>
            <a:ext cx="761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648320"/>
            <a:ext cx="990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p 1 - Understand the Problem</a:t>
            </a:r>
            <a:br>
              <a:rPr sz="4400"/>
            </a:b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Write down the key informatio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257800" y="4114800"/>
            <a:ext cx="5335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A Girl Scout troop went on a hike. 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First they walked 1 mile east, then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2 miles south, then 3 miles west,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and 1 mile north, then 2 miles east. 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How far is the troop from their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starting point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4114800"/>
            <a:ext cx="5335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3429000"/>
            <a:ext cx="5335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3429000"/>
            <a:ext cx="5335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67080" y="2743200"/>
            <a:ext cx="5335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327672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8120" y="4648320"/>
            <a:ext cx="1066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438280" y="3962520"/>
            <a:ext cx="10670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77120" y="3962520"/>
            <a:ext cx="761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34320" y="4648320"/>
            <a:ext cx="990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p 1 - Understand the Problem</a:t>
            </a:r>
            <a:br>
              <a:rPr sz="4400"/>
            </a:b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Write down the key informatio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819160" y="205740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1 mile east,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2 miles south,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3 miles west,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1 mile north,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2 miles eas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p 1 - Understand the Problem</a:t>
            </a:r>
            <a:br>
              <a:rPr sz="4400"/>
            </a:b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Identify what the problem wants you to solv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2362320"/>
            <a:ext cx="8153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A Girl Scout troop went on a hike.  First they walked 1 mile east, then 2 miles south, then 3 miles west, and 1 mile north, then 2 miles east. 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How far is the troop from their starting point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blem Solving is easy if you follow these step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EDUCH091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867280" cy="51055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581280" y="2666880"/>
            <a:ext cx="317340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cide how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’re going to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lve th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oblem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5T15:09:23Z</dcterms:created>
  <dc:creator>Monica/Bob Yuskaitis</dc:creator>
  <dc:description/>
  <dc:language>en-US</dc:language>
  <cp:lastModifiedBy>Monica/Bob Yuskaitis</cp:lastModifiedBy>
  <dcterms:modified xsi:type="dcterms:W3CDTF">2000-02-06T15:13:11Z</dcterms:modified>
  <cp:revision>5</cp:revision>
  <dc:subject/>
  <dc:title>Problem Solving</dc:title>
</cp:coreProperties>
</file>